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6A5-6BE5-4065-95AF-9E69F4D2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240-1191-4E3F-B784-FE3AA2AF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2897C-465D-44B9-A755-7815B32C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0937A-9E1D-4127-B568-90DCAF60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87F1C-6795-4D5A-8830-7368A21F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9369A-A98A-468E-88B3-AB2B6F92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FDF20-E211-47DD-A129-5C301BB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5616C-8C20-4037-A0A0-BC3F0B4E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0E752-24C7-4254-9910-F3688623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8AB41-3D28-4C31-B58A-36119D1E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59791-5235-44B4-A0AA-104D65A3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84C63-A38F-4CD7-A85B-123E3431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513-FCE1-4E16-BF8C-44BB25E8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8ADA6-8F8B-47BD-AE74-5AD06596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3F0A3-B1CD-458F-B86B-04796FA2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252C2-5DF3-4EDE-B537-3D79CF69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2F353-5005-4B48-BF7B-CB60014D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2DD82-C21D-4C3E-9913-53D27F60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6A3C7-5E2C-49EF-93E9-D1B15BCD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E8E15-05F4-4F51-B2E7-8A67F9A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192A3-7944-4E89-BEB3-8219464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8491A-1437-4F04-8D2A-7C4585AD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79D5F-5734-479B-BE94-12630D35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04A-F89A-45A9-8C51-F2566942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649A2-7307-439E-9DF6-6EC2B5F9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50B12-5DC5-4205-B0D3-A2655689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182DE-AE96-409B-900A-B815A3F1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5C41E-8D75-44F0-8DAC-33EDEE1F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9437F-2266-4F20-8BED-5435A412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29496-0462-49E5-AED6-0E7FBA19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B9B38-EE0B-49FB-A02B-E7EBF64C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2C99E-4CE1-47E3-BB13-2FBDE6A1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4278A-BAAE-4F3A-82BC-605B8323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88E1F-B4A7-4B42-8C78-6201574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D7EF-CCA1-479C-AD6F-65C9C459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BBAFC-19C1-4763-8877-7E8E7012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78E3B-09AD-4A0B-9152-0C76388B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DF72E-CC5C-4FC2-860C-CF0921F4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A64FF-405F-4AC9-98CE-C86CF6E0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9F9D7-F30A-431E-9B17-627F988A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9CA51-0661-4066-8E7A-48950D88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42189-3739-44A2-B007-E42E309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92ED7-DFFD-4741-B4CE-FEFEAB6D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2DA56-1931-4283-9394-67234342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EC911-8765-402D-BBBA-16DC470F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58A8-A24B-42C5-A012-412A54EF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C3963-26E3-4FD6-9517-2F4C2C15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ACCB7-335E-48B5-A027-A50B573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66829-926C-48A2-849B-F3CBBFD8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17E19-2053-4E1D-BE82-2CE98D01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2309A-6C21-4F7B-AE6A-CF1737CF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08D11-14AB-4B7E-B4DB-D05825B0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2D273-0F66-4029-A3E9-ACDB2BC4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2BE1F-37A4-4889-8F4F-8686361C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FF880-DF78-415D-9D00-0A1B8731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10967-6CDA-485A-8427-65BC8A48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D96D-D3DA-425D-8539-0DB795AD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963B4-9B1F-40EC-8F72-66910EEE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A75D8-02D3-4417-9626-4B46A38B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57583-BE27-490C-AE87-95AD7971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21E79-5E83-4F86-9F5E-FC8A17C9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53888-A2FD-4C31-A9B2-5BFA8CED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7E30A-83A7-4876-9A41-14419206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49369-86C3-4033-A603-09A2B2AB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102B3-78ED-434F-94EF-1DEBD8CF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2F476-1E4A-4DF9-9DC8-8BA4EF5A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9BCA1-D3F6-49EE-B796-C9C49A47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C814-BB15-4645-85B1-3366885F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E09CD-6A72-4AB6-9FED-97596018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10701-F86F-4AC1-83A0-F9F0B413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F7B23-3C79-4620-965F-88195717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A6114-749A-4A0C-B8A9-7BC86645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25656-9E32-4CFC-9C43-EFC4361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5F78D-27F5-4426-9539-BA973BF5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2A7CD-B1A2-47DB-8546-4CAC9A0F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D8605-B7E8-4403-9419-72787793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E0623-C81C-4EEA-A3CB-43C93328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7C02F-A202-4C53-A4FB-37E7B82C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4382-EBF5-4607-8365-DA9D5A02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FFAA2-A3A6-4C94-9101-6CB0EEF1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E52DA-5A99-4A79-89C2-822285E0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54E68-A413-4E68-80C4-8984B4FB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7C59F-45B2-4B27-BFB8-93DBAD95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5D554-4B31-4039-A65D-4C8ED45A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539B8-7E9B-4DC3-ACA8-8C4C0FA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5E6ED-97D6-4CB7-89AC-2033FB62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34CA9-5D4F-49BF-AA05-88D803EB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B6F1C-D897-42FB-9EC4-389D7872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E4A68-C64C-470D-AE0A-C1C53576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1CDE-2A1F-469A-A789-B408FA12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E1744-09D7-4782-9739-8152B183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F1ADB-EC4D-4FCC-801F-B13A6A03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83AAB-3DD6-463E-9C98-004EE61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007DD-8318-4A21-B326-DBA3CDC3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EE88A-220B-4C66-B415-978D7814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5CE64-CACC-45B0-96A6-C4841798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6D137-3CA3-4ED5-B580-B4795A1B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05EA1-4489-4597-94E7-3792130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165D5-3653-4AF5-8309-49EAF1E6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CBCC1-5659-4EC3-831C-AC48DACA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8920-19DC-463A-BCEF-8F9517EA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11FAD5-74F6-4B96-87F2-B95F8E27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C749D-47FA-4435-A208-91528752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D2DD0-2150-49F7-9B07-D3F5695B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C5E13-A995-4BA5-A61A-0ED22EFA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090C3-A7E8-4521-9600-F6080965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09155-78B1-4809-A450-E4A3DDD5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DF2ED-4969-46A1-AE0C-C875BE82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69B8C8-9272-4EF5-A405-50410872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423D7-B00F-42DE-BA36-37C74228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18020-277A-4B42-B756-BD4EEAD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F90-B3DA-42BE-B3FE-44DEF9B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F5DC-F479-4FEE-A617-DA00D701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D3F2F-A74D-496C-A66E-0BA24308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C4901-2A98-4397-925C-52F44A4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2B9C5-A5B9-4669-A5E1-8DDA6BCE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8D832-DC18-4DD1-801F-A88056E3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797AB-6528-45A8-88C4-4199F521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3CB52-BEF4-428F-9D8A-F9FA7529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FA0264-D824-4BBC-B355-84AC1E5E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56F2E-C381-4DEB-9458-47CCB479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64554-387A-4D12-ADFE-0DC30B4D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306EA-C527-4699-B819-E62941C1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295C-0BFC-497E-922D-4BC68194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E7369-E2CA-4537-A83F-40C8A215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3C95E-CD94-428F-BF6F-AB2CF23E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2D03C-C046-487F-9A72-DD13B4D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36912-9710-4CFD-B8D7-864F611A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35E66-32A1-4231-9811-08AD3B15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F7F64-A590-491F-A691-D95453F1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76664-AFD9-4AA6-B06A-61FDE9AF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268E8-9F58-4E75-A50E-772974BA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63E80-A0EB-40CB-826A-C0B6A2EA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311E6-A84A-4512-A44A-E6DB7C9A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347B-8620-49CD-A5BE-ED16AECD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87A1B8-1339-419E-B931-91946A1E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0CC6D-F11D-4F0E-A4DC-471710C2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01BF6-11B3-4D16-A9B4-958B4B3E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1C7414-733E-4693-967B-41C32052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DA787-595D-4371-BA94-58FAF6DD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BDA6F-CA97-446D-A62F-68011D0A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3A332-270C-40DF-9DF9-969D63E5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766BD-50B5-4A9D-A5DA-0C38B1D9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C1656F-78E7-484C-9563-7887BA64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765CEB-B6AD-4EB3-9BFF-65DA93D8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197E-9B45-473D-A07C-5D0C152F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2A0D19-A01F-47A4-8184-1AFCCA63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403D4-02D4-4712-A67E-EC3A4399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BF1C0-50C7-4329-A2CC-69F14ED4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FC24E-D56B-4970-ABD2-73615D64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AC4E2-9136-439C-A279-4CCE3D5F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33208E-D932-4689-B171-CA6D1497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35BFA-A314-4874-8EF8-763555B0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0A8C9-68B9-4552-B7B8-86714171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344123-3724-4129-A585-18E81E76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3BF55-1C64-4E5E-B609-F1DEB9D3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ED16-5280-4943-AF0D-BC35273F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E5CD98-5A46-48F5-A006-85673E29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A6412D-30FA-4D8A-BAB4-15670548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186236-2915-4AA9-9131-9E3EA734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31583D-FF1B-47F8-B7E5-A267C7E4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5009FA-6DCE-4DC2-BEF2-6A4C401B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9F00A-512F-42E1-92D6-8D4E68BE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4C35D-D769-4963-8D28-8A8D3B83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8B9E07-DF48-4020-AB5D-7963C5B5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536055-3923-47EC-A518-2F39DF63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B72434-3012-4A69-8786-1CA5BC6E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569821-9F31-4BB2-8553-702DC354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58BF5-B10A-4E24-A414-B7FAF922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36D35F-EF89-4A7F-8C18-C0FD34EC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6EA-0E7E-46F4-8C89-BC2349FC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A2A35-EB6E-4E2C-A6EC-C7D04F74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4566-E139-42CC-8F3E-99268FAE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D771B-3487-4196-89D8-AA7A283D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EDF-4F34-4B63-9020-3A1A9216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6567-E729-4D32-B07C-A0D13ABD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0486-BA9C-45B3-9EB7-21B17810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C6B0-F8EE-4C8B-AC31-FFCADFEE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A2524-EBFC-4101-B454-BCD1F481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2016-8526-4FA1-AA2A-86A4D5B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F1A2E-0652-4B1C-8E4C-CE783406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80074-2FEA-48CE-82A8-B282B285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70E8-C227-44FB-8A6A-0A77C4B9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D33F-3203-4853-B410-FBD980EA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3156-960E-445D-A1A4-0FE79998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6B7-50D6-4ADA-A8A5-0BE67F3F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CC52-BEE5-4905-8BF3-B5FC0E04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2F0D9-DFAA-46A5-9EA9-246BBAD5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DA055-A5D5-43EE-BB64-FBF255AC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547C-FC70-490C-BACD-4C77F30A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8803-DAB9-4910-82CC-19113DF4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64CB-D966-4590-B663-EB80B5B0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3003-2EF0-4ADE-98DA-4E878903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A7BF-B372-42EA-B5B2-DC021C01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38B35-4378-4A1C-9994-1E9910C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F5742-5BA4-4698-AC2F-CA09A671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C7D-6E01-4C81-89A5-ABC334B8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8972C-BB3B-47A1-A02A-8EA074CB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01A74-F8C9-47D0-8F52-F688C5EC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15D12-83F0-4AFD-A63D-E1BB0B63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D8F30-A360-4505-97BD-ACB0640E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5D371-64E5-484F-989D-698C9266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5AFB9-B4D9-424B-819E-F6E9106F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D6CA0-4832-4A5B-A7CD-77BE9659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18BA4-5A2B-41B1-BA6B-46F0D063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EAAD6-A5BC-47D3-971D-DFC5A6FB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CF77-FB41-41D4-92C0-4076FFE2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E25-9926-4313-B205-5D7F00F4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944DD-36E9-4836-9E68-E9514F0C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08405-C9B4-4B41-9D35-20C723B0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50DA-BCA4-4076-999E-138170AE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BB785-5172-4A95-974C-3A80E59A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46B4F-C6FF-4858-BFEC-52184CB5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1703C-AAC8-434F-95CE-2D30197B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1DAA0-9C3F-4DEB-86C5-C64EA20B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FB4B8-EAF2-40C6-8710-DD87E96D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460DD-8427-4C03-B929-2A9EE12A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48294-F863-43EE-BC4D-EA117029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A35-5EA5-4F71-9836-6F8F4DE6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77C79-5EE8-4F7A-8DF0-A9B9FD78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BF08C-38AC-40FE-8B7B-C689B4DA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13EB6-5D02-4457-9AF0-8955D0F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E828D-928A-48B6-A8B0-188FC118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79722-00B3-48FD-ABF8-C62643EF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223F9-9832-400B-89BA-8DABB96F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692DD-FEFB-46F2-8347-B4F7268B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EA969-1C42-4EA2-9DAE-B59E7553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753E7-5B91-4152-B590-5AE6DC21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BAD25-665D-4795-969C-4A0DDAA4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5B0-F35D-476B-AEAA-4E5615D3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74D1B-AD6F-44AE-A607-8CFD5F91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1033E-7C42-4E67-92F4-EEC4B241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9A95E-4EDA-488F-9C7B-EFF36BA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99FDD-A249-41AF-9166-B9DD3C83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CA43D-0EC0-421D-9074-DBA78350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50891-677E-4E2B-983B-FCB9564A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FC0D4-B073-4A28-A618-3A067C69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059D3-DA6C-477F-A161-4CA9BCB9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4AFA3-181D-4D4D-AAD1-EDC37895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78650-D0D2-4560-AF47-7CA0E29F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F363-368E-47C5-B556-8ED7E52584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6633-01F9-4A36-902C-FF8AFD1C89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A1B7-3601-49A5-82EE-02403DBE28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5E7D-8105-487A-8630-552DD676D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1770-E4EC-40B5-972C-1379A2109F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56EE-ADAE-4698-8E65-357A27C47B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95D1-7074-4C0A-9334-6A53F06A8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FCF3-C0F8-429F-B19D-160E8D0699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5B7A-D058-4FB7-A34C-30DD4AD916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A0E0-87E0-492F-AEE6-98650F1092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C933-2CA5-4BDC-A18A-CEC24F34B9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7350-1B4D-469D-9AD9-0FFFB62B60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9622-6DF2-451E-9261-D3AAC568C4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D22E-EF6F-468F-BCB5-E25C545B1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04D0-7B1B-4356-82F4-4F2838C094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CE94-F7F0-481A-954C-FA8E716175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7DCF-A7BA-4C61-84FD-8F76B57C6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B04A-C763-4261-A54A-EBF847F32F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D477-BB7C-4379-8F04-93CFC410FF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91E9-0664-4E48-B1E3-4A77318653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2035-56CC-456E-868B-D52D042366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0DC6-8F02-4075-A536-320C2C0468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4737-1E33-4530-8697-897B5C7931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ABAA-AF77-4014-AEEB-2C19633A21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861F-B193-474D-A6F6-429D35ECE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CDE4-10ED-4A05-B3E3-12BB622F53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C17B-125F-44F1-84DD-F7C67F488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E104-5597-46A6-BCE5-523E489DDE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08D7-6C9E-42A2-8101-80268C33DB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08DC-930F-4DE1-8000-C9CA70038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F6C5-0CD2-4545-99D2-4984FDBE8B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8B48-B027-4A43-AB88-A489A89994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370C-A5C9-49B7-B7F0-79B7F8645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1AD9-5EE8-4276-B31B-A513466DEA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343A-F9CE-43C0-8984-51A69BA507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93DE-0C49-4FFD-B003-744A79B735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982E-2335-40D5-95D0-121FE98955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9973-471C-423E-8A92-D285E903CE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2707-6A6F-4343-95B3-2270D68615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1" name="组合 2055"/>
          <p:cNvGrpSpPr/>
          <p:nvPr/>
        </p:nvGrpSpPr>
        <p:grpSpPr>
          <a:xfrm>
            <a:off x="306360" y="1916280"/>
            <a:ext cx="8658360" cy="2376360"/>
            <a:chOff x="306360" y="1916280"/>
            <a:chExt cx="8658360" cy="2376360"/>
          </a:xfrm>
        </p:grpSpPr>
        <p:pic>
          <p:nvPicPr>
            <p:cNvPr id="1022" name="图片 2052" descr=""/>
            <p:cNvPicPr/>
            <p:nvPr/>
          </p:nvPicPr>
          <p:blipFill>
            <a:blip r:embed="rId1"/>
            <a:stretch/>
          </p:blipFill>
          <p:spPr>
            <a:xfrm>
              <a:off x="306360" y="2205000"/>
              <a:ext cx="865836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图片 2053" descr=""/>
            <p:cNvPicPr/>
            <p:nvPr/>
          </p:nvPicPr>
          <p:blipFill>
            <a:blip r:embed="rId2"/>
            <a:stretch/>
          </p:blipFill>
          <p:spPr>
            <a:xfrm>
              <a:off x="1066680" y="3645000"/>
              <a:ext cx="70106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Picture 1" descr=""/>
            <p:cNvPicPr/>
            <p:nvPr/>
          </p:nvPicPr>
          <p:blipFill>
            <a:blip r:embed="rId3"/>
            <a:stretch/>
          </p:blipFill>
          <p:spPr>
            <a:xfrm>
              <a:off x="900000" y="1916280"/>
              <a:ext cx="2303640" cy="32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3313" descr=""/>
          <p:cNvPicPr/>
          <p:nvPr/>
        </p:nvPicPr>
        <p:blipFill>
          <a:blip r:embed="rId1"/>
          <a:stretch/>
        </p:blipFill>
        <p:spPr>
          <a:xfrm>
            <a:off x="1380960" y="1405080"/>
            <a:ext cx="63820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4337" descr=""/>
          <p:cNvPicPr/>
          <p:nvPr/>
        </p:nvPicPr>
        <p:blipFill>
          <a:blip r:embed="rId1"/>
          <a:stretch/>
        </p:blipFill>
        <p:spPr>
          <a:xfrm>
            <a:off x="581040" y="1447920"/>
            <a:ext cx="7981920" cy="39621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2268360" y="14968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2268360" y="21589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2340000" y="35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5"/>
          <a:stretch/>
        </p:blipFill>
        <p:spPr>
          <a:xfrm>
            <a:off x="2340000" y="48229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5361" descr=""/>
          <p:cNvPicPr/>
          <p:nvPr/>
        </p:nvPicPr>
        <p:blipFill>
          <a:blip r:embed="rId1"/>
          <a:stretch/>
        </p:blipFill>
        <p:spPr>
          <a:xfrm>
            <a:off x="90360" y="1728720"/>
            <a:ext cx="8963280" cy="34005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1258920" y="3263760"/>
            <a:ext cx="475308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4753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1" name="图片 16385" descr=""/>
          <p:cNvPicPr/>
          <p:nvPr/>
        </p:nvPicPr>
        <p:blipFill>
          <a:blip r:embed="rId1"/>
          <a:stretch/>
        </p:blipFill>
        <p:spPr>
          <a:xfrm>
            <a:off x="423720" y="1495440"/>
            <a:ext cx="8296560" cy="38671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2"/>
          <a:stretch/>
        </p:blipFill>
        <p:spPr>
          <a:xfrm>
            <a:off x="1187280" y="2185920"/>
            <a:ext cx="612144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612144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900000" y="4856040"/>
            <a:ext cx="6121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图片 22529" descr=""/>
          <p:cNvPicPr/>
          <p:nvPr/>
        </p:nvPicPr>
        <p:blipFill>
          <a:blip r:embed="rId1"/>
          <a:stretch/>
        </p:blipFill>
        <p:spPr>
          <a:xfrm>
            <a:off x="190440" y="1154160"/>
            <a:ext cx="8763120" cy="4867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2411280" y="2001960"/>
            <a:ext cx="115272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3924360" y="2682720"/>
            <a:ext cx="180000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476360" y="3403440"/>
            <a:ext cx="158292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3314880" y="4076640"/>
            <a:ext cx="15825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181560" y="4775040"/>
            <a:ext cx="15829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21505" descr=""/>
          <p:cNvPicPr/>
          <p:nvPr/>
        </p:nvPicPr>
        <p:blipFill>
          <a:blip r:embed="rId1"/>
          <a:stretch/>
        </p:blipFill>
        <p:spPr>
          <a:xfrm>
            <a:off x="547560" y="1305000"/>
            <a:ext cx="8048880" cy="42480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619280" y="4292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20481" descr=""/>
          <p:cNvPicPr/>
          <p:nvPr/>
        </p:nvPicPr>
        <p:blipFill>
          <a:blip r:embed="rId1"/>
          <a:stretch/>
        </p:blipFill>
        <p:spPr>
          <a:xfrm>
            <a:off x="657360" y="1424160"/>
            <a:ext cx="7829280" cy="4009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8193" descr=""/>
          <p:cNvPicPr/>
          <p:nvPr/>
        </p:nvPicPr>
        <p:blipFill>
          <a:blip r:embed="rId1"/>
          <a:stretch/>
        </p:blipFill>
        <p:spPr>
          <a:xfrm>
            <a:off x="1152360" y="2066760"/>
            <a:ext cx="6839280" cy="2724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9217" descr=""/>
          <p:cNvPicPr/>
          <p:nvPr/>
        </p:nvPicPr>
        <p:blipFill>
          <a:blip r:embed="rId1"/>
          <a:stretch/>
        </p:blipFill>
        <p:spPr>
          <a:xfrm>
            <a:off x="262080" y="1014480"/>
            <a:ext cx="8619840" cy="4829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3348000" y="47084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0241" descr=""/>
          <p:cNvPicPr/>
          <p:nvPr/>
        </p:nvPicPr>
        <p:blipFill>
          <a:blip r:embed="rId1"/>
          <a:stretch/>
        </p:blipFill>
        <p:spPr>
          <a:xfrm>
            <a:off x="466560" y="2467080"/>
            <a:ext cx="8210880" cy="1923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720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2289" descr=""/>
          <p:cNvPicPr/>
          <p:nvPr/>
        </p:nvPicPr>
        <p:blipFill>
          <a:blip r:embed="rId1"/>
          <a:stretch/>
        </p:blipFill>
        <p:spPr>
          <a:xfrm>
            <a:off x="371520" y="1714680"/>
            <a:ext cx="8400960" cy="34290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3348000" y="31543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1265" descr=""/>
          <p:cNvPicPr/>
          <p:nvPr/>
        </p:nvPicPr>
        <p:blipFill>
          <a:blip r:embed="rId1"/>
          <a:stretch/>
        </p:blipFill>
        <p:spPr>
          <a:xfrm>
            <a:off x="433440" y="1519200"/>
            <a:ext cx="8277120" cy="38196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3995640" y="2205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3"/>
          <a:stretch/>
        </p:blipFill>
        <p:spPr>
          <a:xfrm>
            <a:off x="3492360" y="41752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7:00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